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FC8-BA43-4938-831B-0DA44E5D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B12-4E4D-4D27-9B42-798626A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15F-F065-49C9-AAF6-CD1742DE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0EF-85D7-44BA-B766-90391EF4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CD42-CB81-4644-B75C-3DEF62A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5C76-AE54-48C5-8631-4B2657B0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C2B-7601-497B-ACD6-1C0A591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4D7D-4AEF-4C13-B43D-01C4B58C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1BAB-BFAA-4FD3-B4DA-D1E5159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B8B9-7AD1-46B8-A2B9-10669452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CB79-44C1-4699-9B29-256CB07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9FC-59F6-4FD4-8615-4976FA4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B20-FD61-4D8B-944A-0925D51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AE4-B54A-4557-95BE-A33B0D51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1944-78FF-40DA-AE93-B3A549DF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0FFA-393E-44A6-9D67-9ED718D1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CC0B-139D-4711-AF4F-72281516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6EC-C15C-4BE6-B459-126314C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A23-C038-4B98-A134-023C7CC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335-07F2-4625-A373-9C29867A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C83-BDC1-44AA-B0B3-50AC1B6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DBB-C5CD-4DFB-9F84-F3887F9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DB6-0609-45FF-A20F-7864B2E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F2E-AE4C-4097-B984-DB75318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6A9-7946-4636-89DA-BCDFD073C9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B95-BAA6-4C23-ADFA-657701F95D4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Сигналы светофор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429840" indent="-4298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Основные сигналы реверсивного светофора могут быть дополнены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желтым сигналом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в виде стрелы, наклоненной по диагонали вниз направо или налево, включение которой информирует о предстоящей смене сигнала и необходимости перестроиться на полосу, на которую указывает стрел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При выключенных сигналах реверсивного светофора, который расположен над полосой, обозначенной с обеих сторон разметкой 1.9, въезд на эту полосу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2201760" y="316080"/>
            <a:ext cx="1511280" cy="1008000"/>
            <a:chOff x="2201760" y="316080"/>
            <a:chExt cx="1511280" cy="1008000"/>
          </a:xfrm>
        </p:grpSpPr>
        <p:sp>
          <p:nvSpPr>
            <p:cNvPr id="171" name="Rectangle 4"/>
            <p:cNvSpPr/>
            <p:nvPr/>
          </p:nvSpPr>
          <p:spPr>
            <a:xfrm>
              <a:off x="2201760" y="316080"/>
              <a:ext cx="1511280" cy="1008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2535840" y="437040"/>
              <a:ext cx="1026000" cy="717480"/>
              <a:chOff x="2535840" y="437040"/>
              <a:chExt cx="1026000" cy="717480"/>
            </a:xfrm>
          </p:grpSpPr>
          <p:sp>
            <p:nvSpPr>
              <p:cNvPr id="173" name="Line 6"/>
              <p:cNvSpPr/>
              <p:nvPr/>
            </p:nvSpPr>
            <p:spPr>
              <a:xfrm>
                <a:off x="2535840" y="495720"/>
                <a:ext cx="1026000" cy="600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4" name="Line 7"/>
              <p:cNvSpPr/>
              <p:nvPr/>
            </p:nvSpPr>
            <p:spPr>
              <a:xfrm flipH="1">
                <a:off x="2651400" y="437040"/>
                <a:ext cx="793080" cy="71748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23"/>
          <p:cNvGrpSpPr/>
          <p:nvPr/>
        </p:nvGrpSpPr>
        <p:grpSpPr>
          <a:xfrm>
            <a:off x="5224320" y="306360"/>
            <a:ext cx="1236960" cy="969840"/>
            <a:chOff x="5224320" y="306360"/>
            <a:chExt cx="1236960" cy="969840"/>
          </a:xfrm>
        </p:grpSpPr>
        <p:sp>
          <p:nvSpPr>
            <p:cNvPr id="176" name="Rectangle 9"/>
            <p:cNvSpPr/>
            <p:nvPr/>
          </p:nvSpPr>
          <p:spPr>
            <a:xfrm flipH="1">
              <a:off x="5224320" y="316080"/>
              <a:ext cx="123696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7" name="Group 10"/>
            <p:cNvGrpSpPr/>
            <p:nvPr/>
          </p:nvGrpSpPr>
          <p:grpSpPr>
            <a:xfrm>
              <a:off x="5224320" y="306360"/>
              <a:ext cx="1236240" cy="861840"/>
              <a:chOff x="5224320" y="306360"/>
              <a:chExt cx="1236240" cy="861840"/>
            </a:xfrm>
          </p:grpSpPr>
          <p:sp>
            <p:nvSpPr>
              <p:cNvPr id="178" name="Line 11"/>
              <p:cNvSpPr/>
              <p:nvPr/>
            </p:nvSpPr>
            <p:spPr>
              <a:xfrm>
                <a:off x="5842800" y="306360"/>
                <a:ext cx="0" cy="86184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9" name="Line 12"/>
              <p:cNvSpPr/>
              <p:nvPr/>
            </p:nvSpPr>
            <p:spPr>
              <a:xfrm flipV="1">
                <a:off x="5842800" y="736920"/>
                <a:ext cx="617760" cy="43092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0" name="Line 13"/>
              <p:cNvSpPr/>
              <p:nvPr/>
            </p:nvSpPr>
            <p:spPr>
              <a:xfrm flipH="1" flipV="1">
                <a:off x="5224320" y="736920"/>
                <a:ext cx="618480" cy="43092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1"/>
          <p:cNvGrpSpPr/>
          <p:nvPr/>
        </p:nvGrpSpPr>
        <p:grpSpPr>
          <a:xfrm>
            <a:off x="3863520" y="316080"/>
            <a:ext cx="1236600" cy="960120"/>
            <a:chOff x="3863520" y="316080"/>
            <a:chExt cx="1236600" cy="960120"/>
          </a:xfrm>
        </p:grpSpPr>
        <p:sp>
          <p:nvSpPr>
            <p:cNvPr id="182" name="Rectangle 8"/>
            <p:cNvSpPr/>
            <p:nvPr/>
          </p:nvSpPr>
          <p:spPr>
            <a:xfrm flipH="1">
              <a:off x="3863160" y="316080"/>
              <a:ext cx="123660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4099320" y="476640"/>
              <a:ext cx="675360" cy="7311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4775040" y="425520"/>
              <a:ext cx="15912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H="1" flipV="1">
              <a:off x="3979080" y="1168560"/>
              <a:ext cx="799920" cy="16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0920" y="2327040"/>
            <a:ext cx="803412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Для регулирования движения трамваев, а также других маршрутных транспортных средств, движущихся по выделенной для них полосе, могут применяться светофоры одноцветной сигнализации с четырьмя круглыми сигналами бело-лунного цвета, расположенными в виде буквы «Т». Движение разрешается только при включении одновременно нижнего сигнала и одного или нескольких верхних, из которых левый разрешает движение налево, средний – прямо, правый – направо. Если включены только три верхних сигнала, то движе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о</a:t>
            </a:r>
            <a:r>
              <a:rPr b="1" lang="ru-RU" sz="2400" spc="-1" strike="noStrike" u="sng">
                <a:solidFill>
                  <a:srgbClr val="29292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87" name="Group 26"/>
          <p:cNvGrpSpPr/>
          <p:nvPr/>
        </p:nvGrpSpPr>
        <p:grpSpPr>
          <a:xfrm>
            <a:off x="5292720" y="260280"/>
            <a:ext cx="2727360" cy="1641600"/>
            <a:chOff x="5292720" y="260280"/>
            <a:chExt cx="2727360" cy="1641600"/>
          </a:xfrm>
        </p:grpSpPr>
        <p:sp>
          <p:nvSpPr>
            <p:cNvPr id="188" name="Oval 18"/>
            <p:cNvSpPr/>
            <p:nvPr/>
          </p:nvSpPr>
          <p:spPr>
            <a:xfrm>
              <a:off x="7236000" y="26028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5292720" y="26028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303960" y="1117440"/>
              <a:ext cx="784440" cy="784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276960" y="26028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54120" y="2471400"/>
            <a:ext cx="82296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Круглый </a:t>
            </a:r>
            <a:r>
              <a:rPr b="1" lang="ru-RU" sz="2800" spc="-1" strike="noStrike" u="sng">
                <a:solidFill>
                  <a:srgbClr val="292929"/>
                </a:solidFill>
                <a:uFillTx/>
                <a:latin typeface="Times New Roman"/>
              </a:rPr>
              <a:t>бело – лунный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мигающий сигнал, расположенный на железнодорожном переезде, разрешает движение транспортных средств через переезд. При выключенных мигающих бело – лунном и красных сигналах движение </a:t>
            </a:r>
            <a:r>
              <a:rPr b="1" lang="ru-RU" sz="2800" spc="-1" strike="noStrike" u="sng">
                <a:solidFill>
                  <a:srgbClr val="292929"/>
                </a:solidFill>
                <a:uFillTx/>
                <a:latin typeface="Times New Roman"/>
              </a:rPr>
              <a:t>разрешается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при отсутствии в пределах видимости приближающего поезда (локомотива, дрезины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3565440" y="0"/>
            <a:ext cx="1798200" cy="2109960"/>
            <a:chOff x="3565440" y="0"/>
            <a:chExt cx="1798200" cy="2109960"/>
          </a:xfrm>
        </p:grpSpPr>
        <p:sp>
          <p:nvSpPr>
            <p:cNvPr id="194" name="Oval 5"/>
            <p:cNvSpPr/>
            <p:nvPr/>
          </p:nvSpPr>
          <p:spPr>
            <a:xfrm>
              <a:off x="4511880" y="1311120"/>
              <a:ext cx="85176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565440" y="1325520"/>
              <a:ext cx="85176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3729240" y="0"/>
              <a:ext cx="1513800" cy="1335240"/>
            </a:xfrm>
            <a:prstGeom prst="su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В светофорах применяются световые сигналы ц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16280"/>
            <a:ext cx="295272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ЗЕЛЕНОГО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63640" y="2852640"/>
            <a:ext cx="2971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КРАСНОГО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564000" y="4005360"/>
            <a:ext cx="295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ЖЕЛТОГО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292720" y="5157720"/>
            <a:ext cx="29512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БЕЛО-ЛУННОГО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697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зависимости от назначения </a:t>
            </a:r>
            <a:br>
              <a:rPr sz="2800"/>
            </a:b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ы светофора могу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914400" y="2759040"/>
            <a:ext cx="533160" cy="1752480"/>
            <a:chOff x="914400" y="2759040"/>
            <a:chExt cx="533160" cy="1752480"/>
          </a:xfrm>
        </p:grpSpPr>
        <p:sp>
          <p:nvSpPr>
            <p:cNvPr id="101" name="Oval 5"/>
            <p:cNvSpPr/>
            <p:nvPr/>
          </p:nvSpPr>
          <p:spPr>
            <a:xfrm>
              <a:off x="914400" y="275904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914400" y="336852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914400" y="3978000"/>
              <a:ext cx="533160" cy="53352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4" name="Group 25"/>
          <p:cNvGrpSpPr/>
          <p:nvPr/>
        </p:nvGrpSpPr>
        <p:grpSpPr>
          <a:xfrm>
            <a:off x="2438280" y="2743200"/>
            <a:ext cx="2057400" cy="1752120"/>
            <a:chOff x="2438280" y="2743200"/>
            <a:chExt cx="2057400" cy="1752120"/>
          </a:xfrm>
        </p:grpSpPr>
        <p:grpSp>
          <p:nvGrpSpPr>
            <p:cNvPr id="105" name="Group 8"/>
            <p:cNvGrpSpPr/>
            <p:nvPr/>
          </p:nvGrpSpPr>
          <p:grpSpPr>
            <a:xfrm>
              <a:off x="2438280" y="2743200"/>
              <a:ext cx="533520" cy="1752120"/>
              <a:chOff x="2438280" y="2743200"/>
              <a:chExt cx="533520" cy="1752120"/>
            </a:xfrm>
          </p:grpSpPr>
          <p:sp>
            <p:nvSpPr>
              <p:cNvPr id="106" name="Oval 9"/>
              <p:cNvSpPr/>
              <p:nvPr/>
            </p:nvSpPr>
            <p:spPr>
              <a:xfrm>
                <a:off x="2438280" y="396216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2438280" y="3352680"/>
                <a:ext cx="533520" cy="532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2438280" y="274320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9" name="AutoShape 12"/>
            <p:cNvSpPr/>
            <p:nvPr/>
          </p:nvSpPr>
          <p:spPr>
            <a:xfrm>
              <a:off x="2590920" y="28195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2590920" y="342900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>
              <a:off x="2590920" y="403848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 flipH="1">
              <a:off x="31996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 flipH="1">
              <a:off x="38854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4" name="Group 17"/>
            <p:cNvGrpSpPr/>
            <p:nvPr/>
          </p:nvGrpSpPr>
          <p:grpSpPr>
            <a:xfrm>
              <a:off x="3885840" y="3749760"/>
              <a:ext cx="609840" cy="609480"/>
              <a:chOff x="3885840" y="3749760"/>
              <a:chExt cx="609840" cy="609480"/>
            </a:xfrm>
          </p:grpSpPr>
          <p:sp>
            <p:nvSpPr>
              <p:cNvPr id="115" name="Line 18"/>
              <p:cNvSpPr/>
              <p:nvPr/>
            </p:nvSpPr>
            <p:spPr>
              <a:xfrm>
                <a:off x="4191120" y="3749760"/>
                <a:ext cx="0" cy="60948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6" name="Line 19"/>
              <p:cNvSpPr/>
              <p:nvPr/>
            </p:nvSpPr>
            <p:spPr>
              <a:xfrm flipV="1">
                <a:off x="4191120" y="4054320"/>
                <a:ext cx="304560" cy="30456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 flipH="1" flipV="1">
                <a:off x="3885840" y="4054320"/>
                <a:ext cx="304920" cy="30456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1"/>
            <p:cNvGrpSpPr/>
            <p:nvPr/>
          </p:nvGrpSpPr>
          <p:grpSpPr>
            <a:xfrm>
              <a:off x="3283560" y="3909240"/>
              <a:ext cx="442440" cy="442440"/>
              <a:chOff x="3283560" y="3909240"/>
              <a:chExt cx="442440" cy="442440"/>
            </a:xfrm>
          </p:grpSpPr>
          <p:sp>
            <p:nvSpPr>
              <p:cNvPr id="119" name="Line 22"/>
              <p:cNvSpPr/>
              <p:nvPr/>
            </p:nvSpPr>
            <p:spPr>
              <a:xfrm>
                <a:off x="3295440" y="3909240"/>
                <a:ext cx="419760" cy="44244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0" name="Line 23"/>
              <p:cNvSpPr/>
              <p:nvPr/>
            </p:nvSpPr>
            <p:spPr>
              <a:xfrm flipV="1">
                <a:off x="3714840" y="3920400"/>
                <a:ext cx="11160" cy="4309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 flipH="1" flipV="1">
                <a:off x="3283560" y="4340160"/>
                <a:ext cx="430920" cy="115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26" descr="ПЕШЕХОД"/>
          <p:cNvPicPr/>
          <p:nvPr/>
        </p:nvPicPr>
        <p:blipFill>
          <a:blip r:embed="rId1"/>
          <a:stretch/>
        </p:blipFill>
        <p:spPr>
          <a:xfrm>
            <a:off x="5257800" y="2911320"/>
            <a:ext cx="8017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6"/>
          <p:cNvGrpSpPr/>
          <p:nvPr/>
        </p:nvGrpSpPr>
        <p:grpSpPr>
          <a:xfrm>
            <a:off x="6921360" y="2806560"/>
            <a:ext cx="2210040" cy="1844640"/>
            <a:chOff x="6921360" y="2806560"/>
            <a:chExt cx="2210040" cy="1844640"/>
          </a:xfrm>
        </p:grpSpPr>
        <p:grpSp>
          <p:nvGrpSpPr>
            <p:cNvPr id="124" name="Group 27"/>
            <p:cNvGrpSpPr/>
            <p:nvPr/>
          </p:nvGrpSpPr>
          <p:grpSpPr>
            <a:xfrm>
              <a:off x="6921360" y="4118040"/>
              <a:ext cx="1905120" cy="533160"/>
              <a:chOff x="6921360" y="4118040"/>
              <a:chExt cx="1905120" cy="533160"/>
            </a:xfrm>
          </p:grpSpPr>
          <p:sp>
            <p:nvSpPr>
              <p:cNvPr id="125" name="Oval 28"/>
              <p:cNvSpPr/>
              <p:nvPr/>
            </p:nvSpPr>
            <p:spPr>
              <a:xfrm>
                <a:off x="6921360" y="411804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6" name="Oval 29"/>
              <p:cNvSpPr/>
              <p:nvPr/>
            </p:nvSpPr>
            <p:spPr>
              <a:xfrm>
                <a:off x="7607160" y="4118040"/>
                <a:ext cx="53352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7" name="Oval 30"/>
              <p:cNvSpPr/>
              <p:nvPr/>
            </p:nvSpPr>
            <p:spPr>
              <a:xfrm>
                <a:off x="8292960" y="4118040"/>
                <a:ext cx="533520" cy="53316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28" name="Rectangle 31"/>
            <p:cNvSpPr/>
            <p:nvPr/>
          </p:nvSpPr>
          <p:spPr>
            <a:xfrm>
              <a:off x="7607160" y="2806560"/>
              <a:ext cx="838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7771320" y="2892960"/>
              <a:ext cx="510120" cy="513360"/>
              <a:chOff x="7771320" y="2892960"/>
              <a:chExt cx="510120" cy="513360"/>
            </a:xfrm>
          </p:grpSpPr>
          <p:sp>
            <p:nvSpPr>
              <p:cNvPr id="130" name="Line 33"/>
              <p:cNvSpPr/>
              <p:nvPr/>
            </p:nvSpPr>
            <p:spPr>
              <a:xfrm>
                <a:off x="7771320" y="2944080"/>
                <a:ext cx="510120" cy="411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1" name="Line 34"/>
              <p:cNvSpPr/>
              <p:nvPr/>
            </p:nvSpPr>
            <p:spPr>
              <a:xfrm flipH="1">
                <a:off x="7822080" y="2892960"/>
                <a:ext cx="407160" cy="51336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32" name="Text Box 35"/>
            <p:cNvSpPr/>
            <p:nvPr/>
          </p:nvSpPr>
          <p:spPr>
            <a:xfrm>
              <a:off x="7302600" y="35686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92929"/>
                  </a:solidFill>
                  <a:latin typeface="Times New Roman"/>
                </a:rPr>
                <a:t>Х-образные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33" name="Text Box 37"/>
          <p:cNvSpPr/>
          <p:nvPr/>
        </p:nvSpPr>
        <p:spPr>
          <a:xfrm>
            <a:off x="0" y="472428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Круглые  с вертикальным расположение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234000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В виде стрелок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507672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Пешеходные светофо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7056360" y="4797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Круглые с горизонтальным расположение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ветофоры с круглыми сигналами могут иметь одну или две дополнительные секции с сигналами в виде зеленой стрелки (стрелок), которые располагаются на уровне зеленого круглого сиг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533520" y="2841480"/>
            <a:ext cx="1774800" cy="2765520"/>
            <a:chOff x="533520" y="2841480"/>
            <a:chExt cx="1774800" cy="2765520"/>
          </a:xfrm>
        </p:grpSpPr>
        <p:sp>
          <p:nvSpPr>
            <p:cNvPr id="139" name="Oval 4"/>
            <p:cNvSpPr/>
            <p:nvPr/>
          </p:nvSpPr>
          <p:spPr>
            <a:xfrm>
              <a:off x="1523880" y="2841480"/>
              <a:ext cx="78444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1523880" y="3886200"/>
              <a:ext cx="78444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>
              <a:off x="1523880" y="4822920"/>
              <a:ext cx="784440" cy="7840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53352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>
              <a:off x="68580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4" name="Oval 10"/>
          <p:cNvSpPr/>
          <p:nvPr/>
        </p:nvSpPr>
        <p:spPr>
          <a:xfrm>
            <a:off x="5410080" y="4822920"/>
            <a:ext cx="78444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flipH="1">
            <a:off x="556272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267080" y="2841480"/>
            <a:ext cx="784440" cy="784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267080" y="3886200"/>
            <a:ext cx="784440" cy="784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267080" y="4822920"/>
            <a:ext cx="784440" cy="7840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3276720" y="4822920"/>
            <a:ext cx="78408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342900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51" name="Group 23"/>
          <p:cNvGrpSpPr/>
          <p:nvPr/>
        </p:nvGrpSpPr>
        <p:grpSpPr>
          <a:xfrm>
            <a:off x="6683400" y="2841480"/>
            <a:ext cx="1927080" cy="2765520"/>
            <a:chOff x="6683400" y="2841480"/>
            <a:chExt cx="1927080" cy="2765520"/>
          </a:xfrm>
        </p:grpSpPr>
        <p:sp>
          <p:nvSpPr>
            <p:cNvPr id="152" name="Oval 18"/>
            <p:cNvSpPr/>
            <p:nvPr/>
          </p:nvSpPr>
          <p:spPr>
            <a:xfrm>
              <a:off x="782640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3" name="AutoShape 19"/>
            <p:cNvSpPr/>
            <p:nvPr/>
          </p:nvSpPr>
          <p:spPr>
            <a:xfrm flipH="1">
              <a:off x="797868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>
              <a:off x="6683400" y="2841480"/>
              <a:ext cx="78408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>
              <a:off x="6683400" y="3886200"/>
              <a:ext cx="78408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>
              <a:off x="6683400" y="4822920"/>
              <a:ext cx="784080" cy="7840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6183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руглые сигналы светофора имеют следующие зна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69440" cy="44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 СИГНАЛ 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РАЗРЕШАЕТ ДВИЖЕНИЕ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 МИГАЮЩИЙ СИГНАЛ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РАЗРЕШАЕТ ДВИЖЕНИЕ И ИНФОРМИРУЕТ, ЧТО ВРЕМЯ ЕГО ДЕЙСТВИЯ ИСТЕКАЕТ И ВСКОРЕ БУДЕТ ВКЛЮЧЕН ЗАПРЕЩАЮЩИЙ СИГНАЛ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ЗАПРЕЩАЕТ ДВИЖ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МИГАЮЩИ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РАЗРЕШАЕТ ДВИЖЕНИЕ И ИНФОРМИРУЕТ О НАЛИЧИИ НЕРЕГУЛИРУЕМОГО ПЕРЕКРЕСТКА ИЛИ ПЕШЕХОДНОГО ПЕРЕХОДА, ПРЕДУПРЕЖДАЕТ ОБ ОПАСНОСТИ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В ТОМ ЧИСЛЕ МИГАЮЩИЙ, ЗАПРЕЩАЕТ ДВИЖ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ОЧЕТА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ОГО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ОГО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ОВ ЗАПРЕЩАЕТ ДВИЖЕНИЕ И ИНФОРМИРУЕТ О ПРЕДСТОЯЩЕМ ВКЛЮЧЕНИИ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ОГО СИГН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6902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Если сигнал светофора выполнен в виде силуэта пешехода (велосипедиста), то его действие распространяется только на пешеходов (велосипедистов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 этом зеленый сигнал разрешает, а красный запрещает движение пешеходов (велосипедистов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6" name="Picture 4" descr="ПЕШЕХОД"/>
          <p:cNvPicPr/>
          <p:nvPr/>
        </p:nvPicPr>
        <p:blipFill>
          <a:blip r:embed="rId1"/>
          <a:stretch/>
        </p:blipFill>
        <p:spPr>
          <a:xfrm>
            <a:off x="7308720" y="1916280"/>
            <a:ext cx="16002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4343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Для регулирования движения транспортных средств по полосам проезжей части, в частности по тем, направление движения по которым может изменяться на противоположное, применяются реверсивные светофоры с красным Х-образным сигналом и зеленым сигналом в виде стрелки, направленной вниз. Эти сигналы соответственно запрещают или разрешают движение по полосе, над которой они расположены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Picture 7" descr="разметка"/>
          <p:cNvPicPr/>
          <p:nvPr/>
        </p:nvPicPr>
        <p:blipFill>
          <a:blip r:embed="rId1"/>
          <a:stretch/>
        </p:blipFill>
        <p:spPr>
          <a:xfrm>
            <a:off x="4846680" y="228600"/>
            <a:ext cx="422424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52:42Z</dcterms:modified>
  <cp:revision>36</cp:revision>
  <dc:subject/>
  <dc:title>ОСНОВНЫЕ ПОНЯТИЯ И ТЕРМИНЫ, используемые в правилах дорожного движения</dc:title>
</cp:coreProperties>
</file>